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B1B-7A6C-41C2-8024-45EC04A9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F26-0C07-400A-9748-F5A54D0E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071-7715-4640-A1FF-8906A0A4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8B0-1FE6-4F53-A8C4-AE8A6E63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70F-0BD1-4B31-B1F9-98A4E19F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5CB-2298-4933-88F2-3AFD015C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72E-8FBA-473E-B887-EA30674D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715-BF7B-483B-8031-E3DCF0CE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386-35EF-4DCB-B1D1-41C552CA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E41A-59AE-4C16-9137-319AD670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FBA-ED59-406E-91EC-EFB50500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432-61D8-409C-B37B-9AECF094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AACB4686-F6C5-48CE-9727-1E21843B05F3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90DF8D-023E-4498-85F3-40606A648D5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66C7159A-E946-40AD-AEF8-A6FC1CD3592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764720" y="1196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           Ingegneria del Web e Applicazion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Web Services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e SOAP</a:t>
            </a:r>
            <a:endParaRPr b="0" lang="it-IT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812000" y="1413000"/>
            <a:ext cx="1331640" cy="502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truttura delle Directorie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7488000" cy="40748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dt" idx="2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omcat: Hom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24360" cy="46400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Struttura di una Web Application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625800" cy="44017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dt" idx="2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ache Axi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476360" y="1324080"/>
            <a:ext cx="7667280" cy="47588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lidazione di Axi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60360" y="1413000"/>
            <a:ext cx="7272000" cy="49683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erifica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403280" y="1344600"/>
            <a:ext cx="7200720" cy="43891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ccorgim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835280" y="1700280"/>
            <a:ext cx="6481440" cy="29091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stallare sulla macchina server il tool JDK (consigliata la versione 1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certarsi che il Web Server Tomcat abbia i riferimenti a tale tool. A questo scopo andare nella configurazione di Tomcat e selezionare la scheda “Java”. Assicurarsi che la Java Virtual Machine abbia un path del tipo “C:\Programmi\Java\jdk1.6.0_06\jre\bin\client\jvm.dll” cioè punti alla dll contenuta nella cartella jdk e non all’analoga dll contenuta nella cartella jre. Inoltre inserire nel Java Classpath il percorso “C:\Programmi\Java\jdk1.6.0_06\lib\tools.j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dt" idx="2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ista Servizi Attiv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127640" cy="44733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ista Servizi Attiv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7273440" cy="45637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dt" idx="2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1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542960" y="1700280"/>
            <a:ext cx="7132320" cy="36460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WS: varie implementazioni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empi di implementazioni W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pache SOAP per Java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AP::Lite per Perl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icrosoft .NET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ordiamo che un WS si compone di: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listener che resta in attesa di messaggi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proxy che prende il messaggio e lo traduce in qualcosa da fare (ad esempio invocare un metodo su un oggetto Java)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application cod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erchiamo di fare in modo che l’application code non sia a conoscenza dell’esistenza del listener e del proxy, anzi che non sia affatto a conoscenza di essere invocato dall’interfaccia di un WS (non sempre è possibile)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dt" idx="3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ubblicazione del servizi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40000" cy="25318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dt" idx="3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File WSDD deploy.wsdd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7056000" cy="40986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dt" idx="3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dmin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768720" cy="45288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dt" idx="3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ccorgimenti per Admin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547640" y="1700280"/>
            <a:ext cx="6984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enzione: E’ necessario inserire in CLASSPATH tutte le librerie jar contenute nella directory lib di axis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Nuova Lista dei Servizi e WSDL del nostro esempi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416360" cy="42001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dt" idx="3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Altro metodo per pubblicare servizi: JWS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056000" cy="3722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dt" idx="3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izi J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272000" cy="34095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to Client: client dinamic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345080" cy="3614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dt" idx="3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to Client: client dinamic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7416360" cy="41605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dt" idx="3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ynamic Invocatio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767280" cy="38588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estire i messaggi SOAP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182844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ntegrazione di SOAP con i vari toolkit varia con il livello di trasport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cuni implementano i loro server HTTP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altri casi, il “demone” HTTP passa il messaggio al proxy, che si prende cura di invocare l’application cod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19640" y="3481920"/>
            <a:ext cx="6228000" cy="2395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dt" idx="4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hiamata del Servizi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258920" y="1330200"/>
            <a:ext cx="7416360" cy="42588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dt" idx="4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Lato Client: Generated Stub (WSDL2Java)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7056000" cy="30589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dt" idx="4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mplementazione del 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624360" cy="4514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dt" idx="4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oogl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624360" cy="42256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dt" idx="4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oogl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840000" cy="40129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dt" idx="4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oogl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7129080" cy="43174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dt" idx="4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scali Web Service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408360" cy="48556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eccanismi di trasporto “pluggable”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cuni tools permettono all’utente di selezionare il meccanismo di trasporto tra differenti possibilità (FTP,SMTP,Japper,IO, ecc.)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componente Proxy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proxy deve effettuare tre azioni: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necessario, “deserializzare” il messaggio, da XML a qualche formato nativo adatto per consentire l’invocazione del codic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rializzare la risposta in XML e passarla al listener che si occuperà di trasmetterla al richiedent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prescindere dalle varie implementazioni, tutti i toolkit SOAP prevedono per il proxy questi semplici passi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1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ploying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ploying un WS significa dire al componente proxy quale tipo di codice deve essere invocato quando viene ricevuto un particolare tipo di messaggi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esempio, la componente proxy deve sapere che se arriva un messaggi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getQuot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ccorre invocare qualche metodo della classe Java samples.quoteServers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WS tools hanno differenti meccanismi di deployment. Per esempio l’implementazione Apache SOAP richiede l’esistenza di un file descrittore, che descrive le classi Java e le regole per mappare gli oggetti Java nei loro equivalenti XML. Questo file deve essere aggiunto al registro dei servizi usato da Apache SOAP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1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WS in Java con Apache SOAP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ache SOAP è l’implementazione SOAP della Apache Software Foundatio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disegnata per essere eseguita come servlet su qualunque Java HTTP serv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tale, implementa solo il componente proxy della gestione del messaggi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ualmente, il toolkit si chiama AXI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me realizzar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7129080" cy="3833280"/>
          </a:xfrm>
          <a:prstGeom prst="rect">
            <a:avLst/>
          </a:prstGeom>
          <a:ln w="9525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6443640" y="1700280"/>
            <a:ext cx="1080720" cy="28872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370560" y="1622520"/>
            <a:ext cx="1080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m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tallazione Tomca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768720" cy="47700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  <Words>755</Words>
  <Paragraphs>137</Paragraphs>
  <Company>DIM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04:45Z</dcterms:modified>
  <cp:revision>46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zione su schermo (4:3)</vt:lpwstr>
  </property>
  <property fmtid="{D5CDD505-2E9C-101B-9397-08002B2CF9AE}" pid="3" name="Slides">
    <vt:r8>36</vt:r8>
  </property>
</Properties>
</file>